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7889-D6D0-4C8B-A3D4-4E0A08490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0D3C-7469-4485-BA98-23FDBBD51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09CE-4582-4F81-BCDC-DAEB21C7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D1B-EA2C-4BDF-9B94-3793D84F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9F4B-E914-4AF7-B807-520591D4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D15-82F9-45CF-A32C-3CD92F2A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11BE-26B9-4DAA-96B9-30E0A53A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A97D-9751-456A-A043-61E35FE7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1F1-44AF-4522-B0F3-E9D346B1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CC8-7528-4D5E-8E37-02470C0B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F7F3-09C5-4173-A321-C02F5F6F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AD5-FC7A-40CB-96B0-E9472239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05E-70E2-4CE4-91ED-6A49AAE1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ED3-554E-4ECB-8BC4-2C144658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707D-4985-4040-AAB5-7ED3466D9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gela Di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ngela D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gela Die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gela Diep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ngela Diep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1814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457200" y="588024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e llamo Angela Die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Yo vivo en New Yor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Tengo catorce añ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No tengo hermanos, pero tengo dos primos en New York, y nuestro apellido somos el mism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Yo soy alta y asiátic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7" descr="Photo on 2011-10-21 at 13.53 #2.jpg"/>
          <p:cNvPicPr/>
          <p:nvPr/>
        </p:nvPicPr>
        <p:blipFill>
          <a:blip r:embed="rId1"/>
          <a:stretch/>
        </p:blipFill>
        <p:spPr>
          <a:xfrm>
            <a:off x="36360" y="438120"/>
            <a:ext cx="1957680" cy="2055960"/>
          </a:xfrm>
          <a:prstGeom prst="rect">
            <a:avLst/>
          </a:prstGeom>
          <a:ln w="0">
            <a:noFill/>
          </a:ln>
        </p:spPr>
      </p:pic>
      <p:sp>
        <p:nvSpPr>
          <p:cNvPr id="84" name="TextBox 62"/>
          <p:cNvSpPr/>
          <p:nvPr/>
        </p:nvSpPr>
        <p:spPr>
          <a:xfrm>
            <a:off x="914400" y="58802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5280" y="5715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ml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86200"/>
            <a:ext cx="43434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o soy no pequeño, estupido!  Buenas noches, Tarangela! Tengo que estudio.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Om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76720"/>
            <a:ext cx="56386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 días, PJ. Estoy sombreros tienes?          Ang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uy perezosa. Tu sombrero es muy lindo! ¿Cuánt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, Angela. ¿Cómo estas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P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57913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, tú eres, y tú no lo puedes negar.  Y yo soy no Tarangela! Chao, Omlet. Tengo que abro tarra.               Ang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6248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é es la tarea y cuánto tu haces? Yo estoy cansada.  Y recordar Ethan? Él dice él está enfermo.                          To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362320" y="5943600"/>
            <a:ext cx="678168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cías, Angela! Tengo tres sombreros, pero su piel es áspero. Nosotros todos estamos cansados, nuestra tarea es 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nscribir un ensayo y estudiar. Mi mamá es enojado ahora. Por qué tenemos tarea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P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9" descr="fb pic 3.png"/>
          <p:cNvPicPr/>
          <p:nvPr/>
        </p:nvPicPr>
        <p:blipFill>
          <a:blip r:embed="rId2"/>
          <a:stretch/>
        </p:blipFill>
        <p:spPr>
          <a:xfrm>
            <a:off x="2057400" y="2514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6" descr="fb pic 1.png"/>
          <p:cNvPicPr/>
          <p:nvPr/>
        </p:nvPicPr>
        <p:blipFill>
          <a:blip r:embed="rId3"/>
          <a:stretch/>
        </p:blipFill>
        <p:spPr>
          <a:xfrm>
            <a:off x="76320" y="533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7" descr="fb pic 2 copy.png"/>
          <p:cNvPicPr/>
          <p:nvPr/>
        </p:nvPicPr>
        <p:blipFill>
          <a:blip r:embed="rId4"/>
          <a:stretch/>
        </p:blipFill>
        <p:spPr>
          <a:xfrm>
            <a:off x="1371600" y="5410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6" descr="fb pic 2 copy.png"/>
          <p:cNvPicPr/>
          <p:nvPr/>
        </p:nvPicPr>
        <p:blipFill>
          <a:blip r:embed="rId5"/>
          <a:stretch/>
        </p:blipFill>
        <p:spPr>
          <a:xfrm>
            <a:off x="2057400" y="37339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fb pic 3.png"/>
          <p:cNvPicPr/>
          <p:nvPr/>
        </p:nvPicPr>
        <p:blipFill>
          <a:blip r:embed="rId6"/>
          <a:stretch/>
        </p:blipFill>
        <p:spPr>
          <a:xfrm>
            <a:off x="228600" y="5486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fb pic 4.png"/>
          <p:cNvPicPr/>
          <p:nvPr/>
        </p:nvPicPr>
        <p:blipFill>
          <a:blip r:embed="rId7"/>
          <a:stretch/>
        </p:blipFill>
        <p:spPr>
          <a:xfrm>
            <a:off x="838080" y="5486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2" descr="fb pic 4.png"/>
          <p:cNvPicPr/>
          <p:nvPr/>
        </p:nvPicPr>
        <p:blipFill>
          <a:blip r:embed="rId8"/>
          <a:stretch/>
        </p:blipFill>
        <p:spPr>
          <a:xfrm>
            <a:off x="1981080" y="5105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fb pic 1.png"/>
          <p:cNvPicPr/>
          <p:nvPr/>
        </p:nvPicPr>
        <p:blipFill>
          <a:blip r:embed="rId9"/>
          <a:stretch/>
        </p:blipFill>
        <p:spPr>
          <a:xfrm>
            <a:off x="2057400" y="441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6" descr="fb pic 1.png"/>
          <p:cNvPicPr/>
          <p:nvPr/>
        </p:nvPicPr>
        <p:blipFill>
          <a:blip r:embed="rId10"/>
          <a:stretch/>
        </p:blipFill>
        <p:spPr>
          <a:xfrm>
            <a:off x="22096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9" descr="fb pic 3.png"/>
          <p:cNvPicPr/>
          <p:nvPr/>
        </p:nvPicPr>
        <p:blipFill>
          <a:blip r:embed="rId11"/>
          <a:stretch/>
        </p:blipFill>
        <p:spPr>
          <a:xfrm>
            <a:off x="1676520" y="5943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32:14Z</dcterms:created>
  <dc:creator>FriscoISD</dc:creator>
  <dc:description/>
  <dc:language>en-US</dc:language>
  <cp:lastModifiedBy>User</cp:lastModifiedBy>
  <dcterms:modified xsi:type="dcterms:W3CDTF">2013-01-02T14:08:21Z</dcterms:modified>
  <cp:revision>114</cp:revision>
  <dc:subject/>
  <dc:title>Profile</dc:title>
</cp:coreProperties>
</file>